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385F-2CD7-4C1D-A295-510C8EBA8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BD4A-1595-4FAE-95E0-9E07F825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35E0-B352-4DCF-83CD-CEC3D7E37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BE4A-8535-403C-B15D-652B6AD36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8342-9BEA-4B59-BE85-3B64A53D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9377-16CE-4FCF-A7EE-D068BE15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19D9-F12C-4AB5-844F-62307233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95D2-5DA6-451F-9932-F618BA69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80B6-2BE2-4FAA-BA06-0F05135E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C0BF-3F9F-47C6-ABEB-D37B382D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6D3B-5927-4AE9-A279-3EB8E3BE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6311-3D9F-48D7-BFAC-324B0A18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2B57-6FA7-41D4-93A5-201BF1A7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E7C1-8EEA-4257-94A1-6ACEAF9F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4888-AA82-4C7C-9328-66BA0833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16E5-E103-4F01-A230-51C9BC04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415F-9CBD-4382-BDC8-E407F19EC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BA809-914A-46B3-A9E4-BD61F22B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1A32D-6659-4FF6-A47A-840EB57A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E2D7C-B8FB-4546-BFAF-F85C47C6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22BAB-91A1-4F9A-AB5A-3EFFA26D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FF28A-FFEF-4C08-B652-F8D22090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38BC-DFDB-4FFE-A877-F615A6C9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3A05A-6C84-4550-A19D-A79154FA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E69DE-CB09-444B-A41D-71349D26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40AD4-B660-4C01-AEC9-17544E23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18891-FD30-477F-BD85-953A539B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19DBC-18A8-4745-9DCD-236C738E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CC696-5D98-43D5-B31A-0FD286314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3772B-29F7-4F27-A556-315BDEBD2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CF848-F2CB-4400-BD2E-1FF2FBED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91B1F-5FC2-47EB-889C-2873D748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900E9-1FE3-4F1C-A4E1-507A366E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7544-8B48-43C4-8657-919228B7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24972-CA13-4FFF-B2A9-BC397E95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BE64F-5112-4C11-9B4A-6E1E442F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744DB-5FB4-47CC-8367-399D03E5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C8913-54B5-4EA5-8515-0C70A8F2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5A295-A450-427C-8AC6-E9FBB200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DAADD-2FFA-43BC-8A6F-55FE8D6A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E2059-05CB-4A5A-862C-3853F5DD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7AB83-F2E6-4836-8069-2D082136E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CC5D8-053B-4940-9A67-781CC3F72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967A3-6F5B-4DB6-9787-F6116E09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3A1F-A3F0-4A67-9D15-CF6CFD6F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F4A97-2AF3-49C2-B2C0-E36A3D42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673F2-755B-4901-92A4-E7A39916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603A1-2DF4-4EFC-B0DC-EDAEF446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E17DC-C460-427F-A341-F7E6A8AD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026C4-9989-40D5-A7CD-1EC228A1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40610-DE10-4872-A166-F29B1D83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BF487-F120-41A1-93F8-BF0268CE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377E0-CB98-4A3C-9544-7129387E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96E79-7B30-41E3-BF31-C4027388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59210-8460-4FF9-9B26-378F1ACF9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1F6D-D26D-4710-B9C6-14E28DDF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73627-2C73-48B9-A49C-33F3C93E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C7888-62A4-44C5-989B-2670E8945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E252E-7E9E-448B-A3C3-6ECD8B94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4D139-C25D-4D26-A2E9-50D532ED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F93AA-C3A4-452D-B7ED-F6184F96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56D73-D982-4AB2-A8CA-B90A9509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BF133-2F7C-41FE-8DE7-1B77C747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72779-1FFC-4821-B6CE-0CB24AD1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5CE9F-28D6-41CD-8DF4-2537778F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4DB9B-F3E8-4580-838B-9EE07876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DD9E-3A2B-4DCE-B7F0-58C44248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C7F81-F9E7-4FBE-8175-E8B68F62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F598F-DEA5-4B4A-8A13-FA56BF539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E22E7-E4C6-4972-AEFC-06FE3DAF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4FD6-E62C-4F0C-A263-65657309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E5AC-FC39-4A08-B24F-A91544F3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444240" y="0"/>
              <a:ext cx="869976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7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2d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8"/>
            <p:cNvSpPr/>
            <p:nvPr/>
          </p:nvSpPr>
          <p:spPr>
            <a:xfrm>
              <a:off x="0" y="0"/>
              <a:ext cx="1826280" cy="167616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10"/>
            <p:cNvSpPr/>
            <p:nvPr/>
          </p:nvSpPr>
          <p:spPr>
            <a:xfrm>
              <a:off x="494640" y="419040"/>
              <a:ext cx="837000" cy="8380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D180-3B6F-4C8B-9156-63E39BF959D5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0" y="0"/>
            <a:ext cx="9144000" cy="6400800"/>
            <a:chOff x="0" y="0"/>
            <a:chExt cx="9144000" cy="6400800"/>
          </a:xfrm>
        </p:grpSpPr>
        <p:sp>
          <p:nvSpPr>
            <p:cNvPr id="47" name="Rectangle 12"/>
            <p:cNvSpPr/>
            <p:nvPr/>
          </p:nvSpPr>
          <p:spPr>
            <a:xfrm>
              <a:off x="1828800" y="4572000"/>
              <a:ext cx="6858000" cy="1828800"/>
            </a:xfrm>
            <a:prstGeom prst="rect">
              <a:avLst/>
            </a:prstGeom>
            <a:solidFill>
              <a:srgbClr val="727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10"/>
            <p:cNvGrpSpPr/>
            <p:nvPr/>
          </p:nvGrpSpPr>
          <p:grpSpPr>
            <a:xfrm>
              <a:off x="0" y="0"/>
              <a:ext cx="9144000" cy="6400800"/>
              <a:chOff x="0" y="0"/>
              <a:chExt cx="9144000" cy="6400800"/>
            </a:xfrm>
          </p:grpSpPr>
          <p:sp>
            <p:nvSpPr>
              <p:cNvPr id="49" name="Rectangle 15"/>
              <p:cNvSpPr/>
              <p:nvPr/>
            </p:nvSpPr>
            <p:spPr>
              <a:xfrm>
                <a:off x="11880" y="0"/>
                <a:ext cx="1823760" cy="4941720"/>
              </a:xfrm>
              <a:prstGeom prst="rect">
                <a:avLst/>
              </a:prstGeom>
              <a:solidFill>
                <a:srgbClr val="d2d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Rectangl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3529800"/>
                <a:ext cx="9144000" cy="2871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" name="Rectangle 14"/>
            <p:cNvSpPr/>
            <p:nvPr/>
          </p:nvSpPr>
          <p:spPr>
            <a:xfrm>
              <a:off x="0" y="4572000"/>
              <a:ext cx="1828800" cy="1828800"/>
            </a:xfrm>
            <a:prstGeom prst="rect">
              <a:avLst/>
            </a:prstGeom>
            <a:solidFill>
              <a:srgbClr val="9fb8c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934320" y="6552720"/>
            <a:ext cx="1676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891800" y="655272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4870080" y="655272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58F6-4B3B-41AC-A69B-DAEEAD78AA31}" type="slidenum">
              <a:rPr b="0" lang="fr-CA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" name="Rectangle 12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2d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3"/>
            <p:cNvSpPr/>
            <p:nvPr/>
          </p:nvSpPr>
          <p:spPr>
            <a:xfrm>
              <a:off x="0" y="2514600"/>
              <a:ext cx="1826280" cy="1828800"/>
            </a:xfrm>
            <a:prstGeom prst="rect">
              <a:avLst/>
            </a:prstGeom>
            <a:solidFill>
              <a:srgbClr val="9fb8c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Rectangle 14" descr=""/>
            <p:cNvPicPr/>
            <p:nvPr/>
          </p:nvPicPr>
          <p:blipFill>
            <a:blip r:embed="rId2"/>
            <a:stretch/>
          </p:blipFill>
          <p:spPr>
            <a:xfrm>
              <a:off x="1814040" y="2517480"/>
              <a:ext cx="7329960" cy="371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93108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189216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4866840" y="655596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55C6-6995-40C2-AAFC-BA7CA53D3AF4}" type="slidenum">
              <a:rPr b="0" lang="fr-CA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0"/>
          <p:cNvGrpSpPr/>
          <p:nvPr/>
        </p:nvGrpSpPr>
        <p:grpSpPr>
          <a:xfrm>
            <a:off x="0" y="0"/>
            <a:ext cx="9144000" cy="1676520"/>
            <a:chOff x="0" y="0"/>
            <a:chExt cx="9144000" cy="1676520"/>
          </a:xfrm>
        </p:grpSpPr>
        <p:pic>
          <p:nvPicPr>
            <p:cNvPr id="139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Rectangle 13"/>
            <p:cNvSpPr/>
            <p:nvPr/>
          </p:nvSpPr>
          <p:spPr>
            <a:xfrm>
              <a:off x="11880" y="0"/>
              <a:ext cx="1823760" cy="82332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"/>
            <p:cNvSpPr/>
            <p:nvPr/>
          </p:nvSpPr>
          <p:spPr>
            <a:xfrm>
              <a:off x="506160" y="205560"/>
              <a:ext cx="835920" cy="4114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9344-EC7D-471C-8B9C-C7173DD5BCC0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9"/>
          <p:cNvGrpSpPr/>
          <p:nvPr/>
        </p:nvGrpSpPr>
        <p:grpSpPr>
          <a:xfrm>
            <a:off x="0" y="0"/>
            <a:ext cx="1828800" cy="1676520"/>
            <a:chOff x="0" y="0"/>
            <a:chExt cx="1828800" cy="1676520"/>
          </a:xfrm>
        </p:grpSpPr>
        <p:pic>
          <p:nvPicPr>
            <p:cNvPr id="184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288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Oval 13"/>
            <p:cNvSpPr/>
            <p:nvPr/>
          </p:nvSpPr>
          <p:spPr>
            <a:xfrm>
              <a:off x="500760" y="205560"/>
              <a:ext cx="827280" cy="4114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FD7D-C1ED-4040-8C0F-FE59903B50E2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8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13"/>
            <p:cNvSpPr/>
            <p:nvPr/>
          </p:nvSpPr>
          <p:spPr>
            <a:xfrm>
              <a:off x="7317720" y="0"/>
              <a:ext cx="1826280" cy="6858000"/>
            </a:xfrm>
            <a:prstGeom prst="rect">
              <a:avLst/>
            </a:prstGeom>
            <a:solidFill>
              <a:srgbClr val="727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4"/>
            <p:cNvSpPr/>
            <p:nvPr/>
          </p:nvSpPr>
          <p:spPr>
            <a:xfrm>
              <a:off x="7317720" y="0"/>
              <a:ext cx="1826280" cy="167616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7812360" y="419040"/>
              <a:ext cx="837000" cy="8380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78487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6D85-DD7D-454E-80DA-6D3100F219CA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3" descr=""/>
          <p:cNvPicPr/>
          <p:nvPr/>
        </p:nvPicPr>
        <p:blipFill>
          <a:blip r:embed="rId1"/>
          <a:stretch/>
        </p:blipFill>
        <p:spPr>
          <a:xfrm>
            <a:off x="1889280" y="5870520"/>
            <a:ext cx="6584760" cy="4939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04760" y="4648320"/>
            <a:ext cx="655308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 u="sng">
                <a:solidFill>
                  <a:srgbClr val="000000"/>
                </a:solidFill>
                <a:uFillTx/>
                <a:latin typeface="Trebuchet MS"/>
              </a:rPr>
              <a:t>UN MONDE EN CHANGEMEN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Trebuchet MS"/>
              </a:rPr>
              <a:t>MODULE 1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Le monde a toujours changé. Tu sais que tes parents et tes grands parents vivaient différemment quand ils avaient ton âg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1.  Dans la vie, qu’est ce qui change avec le temp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2. Qu’est ce qui ne change pa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3. Quels pouvoirs les gens ont-ils pour transformer le monde ou qu’est-ce qu’on peut faire pour évoquer les changement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rebuchet MS"/>
              </a:rPr>
              <a:t>L’AUTONOMISATIO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Qu’est ce que c’est l’autonomisation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Lorsque les gens sont l’autonomes, ils peuvent faire des choix et transformer le monde s’ils croient qu’un changement est nécessai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Avec l'âge,  tu deviens de plus en plus autonome. Ça veut dire que vous avez plus de pouvoir et de contrôle sur votre propre vi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4. Écrire 3 choses que vous désirez changer dans la vie ou dans votre vie maintena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Organization Chart 7"/>
          <p:cNvGrpSpPr/>
          <p:nvPr/>
        </p:nvGrpSpPr>
        <p:grpSpPr>
          <a:xfrm>
            <a:off x="533520" y="2057400"/>
            <a:ext cx="8228880" cy="4341960"/>
            <a:chOff x="533520" y="2057400"/>
            <a:chExt cx="8228880" cy="4341960"/>
          </a:xfrm>
        </p:grpSpPr>
        <p:cxnSp>
          <p:nvCxnSpPr>
            <p:cNvPr id="280" name="_s1028"/>
            <p:cNvCxnSpPr>
              <a:stCxn id="281" idx="0"/>
              <a:endCxn id="282" idx="2"/>
            </p:cNvCxnSpPr>
            <p:nvPr/>
          </p:nvCxnSpPr>
          <p:spPr>
            <a:xfrm flipV="1" rot="16200000">
              <a:off x="5653440" y="2787480"/>
              <a:ext cx="869040" cy="2880720"/>
            </a:xfrm>
            <a:prstGeom prst="bentConnector3">
              <a:avLst>
                <a:gd name="adj1" fmla="val 1313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3" name="_s1029"/>
            <p:cNvCxnSpPr>
              <a:stCxn id="284" idx="0"/>
              <a:endCxn id="282" idx="2"/>
            </p:cNvCxnSpPr>
            <p:nvPr/>
          </p:nvCxnSpPr>
          <p:spPr>
            <a:xfrm flipV="1">
              <a:off x="4647600" y="3793680"/>
              <a:ext cx="3240" cy="869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5" name="_s1030"/>
            <p:cNvCxnSpPr>
              <a:stCxn id="286" idx="0"/>
              <a:endCxn id="282" idx="2"/>
            </p:cNvCxnSpPr>
            <p:nvPr/>
          </p:nvCxnSpPr>
          <p:spPr>
            <a:xfrm flipH="1" flipV="1" rot="5400000">
              <a:off x="2773080" y="2787840"/>
              <a:ext cx="869040" cy="2880720"/>
            </a:xfrm>
            <a:prstGeom prst="bentConnector3">
              <a:avLst>
                <a:gd name="adj1" fmla="val 1313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2" name="_s1031"/>
            <p:cNvSpPr/>
            <p:nvPr/>
          </p:nvSpPr>
          <p:spPr>
            <a:xfrm>
              <a:off x="3413520" y="2057400"/>
              <a:ext cx="2468520" cy="1736640"/>
            </a:xfrm>
            <a:prstGeom prst="roundRect">
              <a:avLst>
                <a:gd name="adj" fmla="val 16667"/>
              </a:avLst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L’autonomis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032"/>
            <p:cNvSpPr/>
            <p:nvPr/>
          </p:nvSpPr>
          <p:spPr>
            <a:xfrm>
              <a:off x="533520" y="4662720"/>
              <a:ext cx="2468520" cy="1736640"/>
            </a:xfrm>
            <a:prstGeom prst="roundRect">
              <a:avLst>
                <a:gd name="adj" fmla="val 16667"/>
              </a:avLst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voir du pouvoi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033"/>
            <p:cNvSpPr/>
            <p:nvPr/>
          </p:nvSpPr>
          <p:spPr>
            <a:xfrm>
              <a:off x="3413520" y="4662720"/>
              <a:ext cx="2468520" cy="1736640"/>
            </a:xfrm>
            <a:prstGeom prst="roundRect">
              <a:avLst>
                <a:gd name="adj" fmla="val 16667"/>
              </a:avLst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prendre ses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propres décision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034"/>
            <p:cNvSpPr/>
            <p:nvPr/>
          </p:nvSpPr>
          <p:spPr>
            <a:xfrm>
              <a:off x="6293880" y="4662720"/>
              <a:ext cx="2468520" cy="1736640"/>
            </a:xfrm>
            <a:prstGeom prst="roundRect">
              <a:avLst>
                <a:gd name="adj" fmla="val 16667"/>
              </a:avLst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e sentir puissant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7" name="Picture 3" descr="C:\Users\Michelle.Skead\AppData\Local\Microsoft\Windows\Temporary Internet Files\Content.IE5\ZFX8F7J5\MC900441310[1].png"/>
          <p:cNvPicPr/>
          <p:nvPr/>
        </p:nvPicPr>
        <p:blipFill>
          <a:blip r:embed="rId1"/>
          <a:stretch/>
        </p:blipFill>
        <p:spPr>
          <a:xfrm>
            <a:off x="7772400" y="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88" name="TextBox 2"/>
          <p:cNvSpPr/>
          <p:nvPr/>
        </p:nvSpPr>
        <p:spPr>
          <a:xfrm>
            <a:off x="2133720" y="76212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5. Copiez la gril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Trebuchet MS"/>
              </a:rPr>
              <a:t>L’AUTORITÉ ET LE POUVOIR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Les gens autonomes se sentent qu’ils contrôlent facilement leur vi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Ils peuvent faire des choix importants, comme choisir une profession ou un lieu de résidenc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Ils ont l’autorité de prendre des décisions importantes et le pouvoir de les mettre en applic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rebuchet MS"/>
              </a:rPr>
              <a:t>L’AUTORITÉ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L’autorité donne le droit 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  <a:ea typeface="Arial"/>
              </a:rPr>
              <a:t>à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 une personne de prendre des décisions dans une situation préci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Dans notre vie, il y a des gens qui ont l’autorité de prendre des décisions pour nou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4" descr="MCj03596510000[1]"/>
          <p:cNvPicPr/>
          <p:nvPr/>
        </p:nvPicPr>
        <p:blipFill>
          <a:blip r:embed="rId1"/>
          <a:stretch/>
        </p:blipFill>
        <p:spPr>
          <a:xfrm>
            <a:off x="4114800" y="4572000"/>
            <a:ext cx="1587600" cy="1908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C:\Users\Michelle.Skead\AppData\Local\Microsoft\Windows\Temporary Internet Files\Content.IE5\ZFX8F7J5\MC900441310[1].png"/>
          <p:cNvPicPr/>
          <p:nvPr/>
        </p:nvPicPr>
        <p:blipFill>
          <a:blip r:embed="rId2"/>
          <a:stretch/>
        </p:blipFill>
        <p:spPr>
          <a:xfrm>
            <a:off x="304920" y="304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rebuchet MS"/>
              </a:rPr>
              <a:t>6. FAIS UNE CHAINE DE COMMANDE AVEC TON NOM AU MILIEU. QUI A L’AUTORITÉ DANS VOTRE VIE? INCLURE AU MOINS 10!!</a:t>
            </a:r>
            <a:r>
              <a:rPr b="0" lang="fr-CA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fr-CA" sz="1200" spc="-1" strike="noStrike">
                <a:solidFill>
                  <a:srgbClr val="000000"/>
                </a:solidFill>
                <a:latin typeface="Trebuchet MS"/>
              </a:rPr>
              <a:t>(J`AI FAIT MA CHAINE DE COMMANDE POUR VOUS DONNER UNE EXEMPLE.)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6" name="Diagram 1" descr=""/>
          <p:cNvPicPr/>
          <p:nvPr/>
        </p:nvPicPr>
        <p:blipFill>
          <a:blip r:embed="rId1"/>
          <a:stretch/>
        </p:blipFill>
        <p:spPr>
          <a:xfrm>
            <a:off x="457200" y="2279520"/>
            <a:ext cx="8686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3:44:06Z</dcterms:created>
  <dc:creator>Administrator</dc:creator>
  <dc:description/>
  <dc:language>en-US</dc:language>
  <cp:lastModifiedBy>ED18</cp:lastModifiedBy>
  <dcterms:modified xsi:type="dcterms:W3CDTF">2014-11-17T14:05:56Z</dcterms:modified>
  <cp:revision>38</cp:revision>
  <dc:subject/>
  <dc:title>Un monde en changement</dc:title>
</cp:coreProperties>
</file>